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AC3-64BD-428B-A4D3-35B735CB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2FD-BB39-41E7-B487-6E6CFBE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7A891-1C0B-49DE-BBF5-520F4B6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BA078-649B-4E8A-A3EF-BBA397A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F372C-DC80-4D80-8B30-CF69C43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20EA1-7DF7-4500-93BA-9153F3E8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42835-4B30-43DE-B907-774A912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89D47-C804-4B97-B9E3-401EB90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C6BA2-214F-4B1E-88D8-E0884328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E6745-A28C-4720-BAB9-F2DB3838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A27AD-EC8D-465F-A9D6-D88D890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574F-A978-4D74-BC80-D37CAE21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396-1E38-4147-AAAA-7C02914C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EDF09-F8D7-4E7D-B9CD-294125D6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DA040-4339-4B59-803C-FB8E1D8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298D2-B84C-4CDE-9052-EC2C8D96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2B405-63CF-4DBC-B08F-DA6021A1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7741C-EF8A-4373-9332-76447CD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90A2F-1378-4CB1-90B9-06991B8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AAD3E-45B1-4350-9AA6-2B653B5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13EE3-15B3-46FB-932A-4EA8242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6C5B2-A027-4FDC-9F95-EE181A6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6ADAA-F5E7-4340-AB5B-3200F1F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9D4-557B-4DF4-8CC8-7E611A1D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4E3FC-B4EB-401E-8ADA-8AC43408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8BE0-2695-4791-AE33-97FA445D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E5249-63AF-4E31-A5FC-5CFAC6A6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0F32-66A6-4FD0-91E9-989FFB32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7B23A-1269-4B46-ADE2-F8821A3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4FC0-57D4-4F84-9282-DF645F8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A1F4C-1417-4CD8-B135-D0786957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AFF5B-DEA3-4396-B65D-6BBB5FA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7F217-D244-4EFD-9837-F6FEAA3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89A9D-5936-4432-AF8C-7AE1B34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755B-BEA3-4D24-BBF0-509EA14F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E978F-68A2-46A9-95A5-0348AE7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94B84-A62A-43FE-B2C9-EDE166A9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73435-07EB-4CF8-9EA4-6FB4AEF7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6DFE6-07B9-4BD0-B80A-ADE4B8EA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5A33B-2CAA-489F-A750-8BD3B52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A8EF9-2B65-46E5-8BC2-EB11DC5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7CA5D-A892-4FBF-8D0C-080138F7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987F6-C994-4423-89DF-84D05D36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8728A-BCBD-473A-B633-6013A40D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9F3E5-92D6-4D36-9C2D-2755142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D499-5A6A-44A8-AB5D-D4EC92B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535E0-743F-4378-8859-734E9723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D97DA-DF00-45CD-AC5F-3215F2D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107E2-9857-4080-99CA-88E7486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D402D-D670-44FC-A558-85EC7729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37A74-9FFF-4A95-82FB-2C684F6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7CE30-1411-4D5F-AC35-301B8FD5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E696C-8B02-49BE-9005-EFE30E4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9EE6F-53B6-4D81-B528-CD473AFC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97D14-02F1-450E-AE76-876DF9C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CCF83-90A2-4BF6-B9FB-9FFA7360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457A-EA8B-49BC-A034-DD1F9B4C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C4576-C084-496C-ACB9-F006E9D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A5852-D2D5-47DD-B624-F72A958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CC1F8-1825-42CE-919C-8225C12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B82C5-9D1A-48CB-8822-7E9D9F95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2F4EB-5620-4223-97B4-A807F69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D649C-0672-4169-86A4-1461B037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236A8-5F9C-4480-B79A-32C10926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DE3B6-1048-4377-AE62-4C4EE482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C2D85-A211-44D5-81E3-89431A9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46C4E-2688-4D4F-8687-48250F7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2EEA-1848-4A22-8D20-92EC667D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75FFF-BB00-4B19-ACCA-C2B0EA14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A19F6-C7B4-48EB-B73C-389B71C6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10D42-C810-491B-9E8F-47CF50F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88DEB-88D1-4D8F-BC2C-67ED836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65F3E-6527-45F9-A7F3-3BBA380F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0834D-477E-4940-9AD1-A69C71CA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78373-84D7-4ACB-A151-33C36A84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97CC5-50D0-4226-845F-A71D2C55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180EF-ABB8-40AF-9071-BD2DB5D5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870E9-7A87-4E00-AFEC-DA556A2B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F5DA-AC4D-4BEB-85F3-5B1D09F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0EEBC-BAF5-4D13-BB2D-248352B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885FF-F10D-4E4B-B435-527B5E8A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E70CA-4D5C-4864-9DCA-7B40DCB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15881-D0EC-458E-A0A2-256F6D83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3B086-CA11-4B28-8940-CEC7B1F9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2B003-101A-433D-B9E2-D1506D5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70C9A-326D-4A01-9022-BD0482B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96FA6-6147-498D-B2F7-7E9BDC8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49041-F589-4462-8803-C1D1DC9B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A07F9-53C8-4FF8-BFDF-511F7F04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EDA-CAFC-42DE-AC67-5721C98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8B194-04EF-4386-B368-56CFCDA2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1DAB9-3136-4586-B2C3-40954EEE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F92F0-709D-4EE4-AD57-0640CAA7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30C6C-9A36-4EF4-A2A4-4198A37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2D335-54A2-4C0E-A92C-0FAF8E32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1C655-9F87-4E75-81E3-ACE4A41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E45E7-F54A-4C25-BFE0-71755CE2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261BF-9178-4CF3-B871-9F6795C2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41E38-B120-40FA-8DB2-545E2C4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CB16C-9AA0-4814-92C9-7148C4A3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FD40-2103-4ECA-8E7F-071C9881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6E2B6-F96A-48E8-8A09-DB85E85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0CB2B-EFC7-47D1-9564-A1B311F5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5AF8D-D977-47D7-9F56-3E1DAE9B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C1B4D-0673-4747-961B-AD5A878F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172C8-1F78-4E6E-A48C-3F2F5BB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B9019-1493-4BB7-8A30-48BCEF1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ED939-11FD-4CCB-96C5-47D8350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25332-F29A-44D7-897B-39DA367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2D213-E01C-40E6-9584-51A05068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5C609-3BBF-4E20-AF3C-C4394EF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00F-E7E9-4ECF-B1DF-C4F3DA30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473D-E44E-4912-968E-0FB7D3F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E98F3-CFE8-4923-B968-384ED01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9233F-436F-42CC-89DC-B7F85410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5051A-84EB-4E12-8A95-BC6EFF1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8BB1A-1DE9-4556-9627-EF05E62B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75560-53A8-4839-9104-AB3BEBCE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C955D-0A44-408F-A3A7-EBE938D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01872-9539-441E-A470-2F518B3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65C76-34DF-422F-9175-A788B9F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5FFE13-F8E9-40FE-8C02-C328EB5F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092E5-2599-4610-922A-97B8283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DF7D-C14E-457D-BED5-A70861C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7476D-E85E-4B39-9573-96F1EC10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8DA1E-D17D-470F-B1DB-9245E08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804E8-0FBE-463B-8D51-089F795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AE166-2EA8-400C-9C9A-417C317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0E9CF-97A9-4CCB-BBE3-B32DC4D6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A3ADB-07E8-44F2-8C1A-491A597E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88FB5-58B7-4A0E-879F-975F1FED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AB6DD-5079-4932-BCC4-624B7111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DF293-22DD-401F-A350-7B39AF2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E67B4-DF7D-4BA0-B631-D9136397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AC14-B37A-4467-B104-62B4C86E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82434-B9E2-4024-BC79-92381440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DDC373-103F-40C5-9A70-98E15B8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5DDEB-F95C-4EE1-BCD3-38D5BDE5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25D1F-73A1-4F03-865C-7B1D3D4D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4470F-7189-4237-B7AE-E9C6013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4DBD3-6D1E-49C0-ADD5-75DA9C0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E3B51-37EB-4B6B-B787-98193E2A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008AE-CA20-4039-9374-AB1342FF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95CE37-941D-4679-B769-A6A34E6E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FE4F8-2CCC-4963-A284-EBA79451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E071-68B4-4161-BDF7-D48D1E5B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50B17-1680-43FF-A3DB-E668EB43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7AFFE-2013-4261-A8A3-84A9DCA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24D31-8F45-4A2E-B410-F254ECD9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45DC3-5873-46EB-AE8D-3DA19134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143D2-BBC8-49CC-9E88-B605406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40E20-FF1A-497D-93FF-8F3AA29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BBCCD-3DBD-4230-9ECE-B7A7F3C9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A281F-A49D-4771-AA4C-0704D63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025D6-C1C2-4950-9EEE-AB44056E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2F4F5-A5DD-423C-A7E1-0FE93653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95B5-E814-43EE-90D1-9D9DE716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F9C2E-3380-425B-AEFE-8601C82E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D8E4C-D576-4550-B416-205CBB3A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0C48B-97DA-4A20-AD41-52F1BC2D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ECEB1-3601-4617-B327-BD1D3F5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2B7AB-58D7-4BA4-A174-4D76D3C9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B0A4D-4576-493A-A660-A33393AD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32081-9DD5-4423-BFB5-A26CB76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1FA9F-9E19-4433-99D2-46D2C68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EDF935-335A-48C6-8AD8-6AE0686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7C913-7FE3-4B20-B11E-45DC096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CAD6-96D0-4DFD-A8B5-AABEDAAB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224F2-B771-4CE9-884B-1E61BD6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6DE3C-6D15-41FE-85C8-9A02C7D4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6E26B-D739-4EAA-B1DD-D770C5AF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A3FE-8550-43AD-98F3-FE080CF2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1696-8A20-40A2-AAE5-3A39132B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174D-DC9D-43A6-B2B1-FD6197F3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53DB-7A8E-4F52-A215-B203ECC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CB2-32F9-4480-ABB8-7A527E9A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D24D-1906-4EC7-86C1-46DBB6B0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B403-74A3-4C48-B43F-79F31521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13D4-7D8A-4DAF-A625-9BE24A0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074B-D173-4B0D-AE94-2952482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82CE-0D47-4BE5-9A34-43BEC64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AF12-562E-48A3-8B79-9792DBA7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BF38-1B10-4E8A-A9AC-118F5894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54BF-29D3-4ADA-9377-433A37F2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2811-174B-43DA-8795-72F1631F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EF0F-5EB3-4552-8DD1-7CFB10F7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5AD-1930-4DC5-879B-C54CDD82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1440-FA7A-46E3-A5D9-362FFA2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2D81-BDCB-48E1-A2C2-183A4BD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82C2-182D-4076-9434-B3E88799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0FE8-DB9C-4BE3-AC66-6884D7A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DD14-640E-4FCD-AFF2-38027D9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EF9C-DC86-4020-AF49-CBEAC7B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70B6-1FA7-478C-ADFB-94DA57A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02A5B-EFB8-4BD8-8DD4-9BA28CE5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E47F-0D9F-43C8-96CC-2129F633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6212-D032-4DCB-A2B5-6AFB3488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392-34BB-4BE4-99CB-5D045D9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2BB1-39D2-48C8-A036-99D2B85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3543-B292-4E8B-9988-0712319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E71E-F2DE-4707-B92D-C9CD7BD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36E0E-3A82-4B04-ACE0-A9BCCFFB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37BD-FCFD-488F-BB44-C7124142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3170-5CA3-45E7-8489-17B04FC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52B5-8E05-4EC3-AB3B-53FC3E2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7460-6D5D-4727-A82E-824CA4A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107A-2570-4FE2-A8AF-9573B73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3575-D473-491A-9C47-791D212B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078-B220-42BD-8F08-F3D8DB6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EFA1-AD1C-4C5C-8544-A97F940D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57EA-9B92-4834-A8A0-538E1D0A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06E2-688F-4C68-9F33-5C3AC076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112B-BD1D-4B3E-A331-3D12DC1A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F0BE-5A75-4121-944F-C68D49AF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733FA-8C07-4FFC-AA49-CB87A7B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5CFDD-D3F6-4557-8305-36C8BDF8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2690-441A-4DE3-9C53-65B5504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E8BE-C761-4153-ADCE-D038A69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C6D6-7DE3-4044-AC5E-BCEACBE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EAF-61E8-4108-B1C6-77FC5D5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CBF6-665F-4848-A6C6-82ADF3CE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C9A1-6E62-4393-BADA-72B6D7A4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E5FF-C5D4-4ED5-8CE3-225D6721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4147-9A1B-4F22-BFCA-B05D4493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FAA4-E7EA-41FE-AD28-EF42D228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150A-8B99-4B42-AAEC-00102172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9971E-42DC-46B4-9E93-6A91C74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7E2F4-B17A-4AC5-9259-4465551A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E57B-B11F-486D-AC06-916E0C9B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44523-C3EA-4A3E-A319-F563DC8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9B5-A0E6-44A5-9147-4F69448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0FD49-1EA8-4860-A650-115A418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8D6F-CAF7-4585-8B98-C875166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F231-DEF0-49EE-8671-A9096CC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0D3BC-3739-4437-A1BF-34C71E3E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AAE9-1152-4537-B3B1-F6042881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F2D5D-284E-4EE5-B029-A719E589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338EC-5A96-4CCD-B46C-26A52AC2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02BB6-2B65-4A6B-BB1B-1669453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29AE-E9AC-4394-BCBF-7DCD07F2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4BBB4-BD55-41CB-98DF-762110A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EC1-388B-4320-AC70-E9C521C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1E8B-9BE2-452F-918A-A89BE7DA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66D96-94D9-4BED-AB75-B09A98C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61E71-C911-4E9B-8088-18DFB83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493D-614A-4DF2-BECF-5B009C8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6B7D9-50BB-4B87-B007-FF2C422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EFDC-B66A-4348-952F-CAA998DB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02C94-D917-4B03-AD50-BA6F67D3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7FDBB-D5E7-4346-AEB9-29B40964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E6FE8-F96A-4F41-9291-B041F7A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A063E-4F34-4992-B4C0-D7C615DF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238-2ED8-497E-9D34-895DAFEF2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68AE-BB3A-420D-843F-E76CB59BD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EDD5-61A4-45E9-BE3C-60899C9E1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3C2-5577-48F3-A85A-54E475AC3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ABC-65FA-43A8-8C5B-67FF6E1D5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0134-4840-4F42-B477-BD44BEEE9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340-A686-4B48-99B3-09F6EBA85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61B-E8F8-405E-ABB1-BF79864D16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CBDC-3405-44E9-AF88-4FD25440D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92F-993D-4EDB-8F97-1B2FCF747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F5CD-BADB-43DD-9C2B-BE0AF7A91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227-D547-4E32-ADFB-C302B3A15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B00-3942-4B8F-94C9-B4CB4656F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D0F0-871E-48C0-979C-31A50A6F5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5502-EB07-423D-8577-C1CC30A73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83EF-3489-46F0-A2C3-E182A4C43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7B2E-A7AC-421E-B394-EBD833246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9A4F-4286-4A29-8267-8D01C8CBC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66F0-F1E6-4DAF-8DEA-99DA6EC8A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71E8-2339-452A-9389-4523E53A3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F39-257C-4BA1-9093-7005DD54C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4AB-A520-48CB-936F-FFA12B68A4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BCE-13E6-42EE-A52E-1AE5E0D97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80B-5F78-4597-8867-9869AE87D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B16-C0D8-4DAC-9243-9B23592764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A16D-FFC5-40D8-A585-47C23334C5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180D-28E0-446E-A3CA-CBBC811AD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8CFA-CBAC-4AFF-A359-0BE146491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93E1-F7B6-4423-BD78-FF1FDF5D31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8B91-066F-47E0-9858-5E8F2C211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0DA0-60CF-446E-B3DB-CB87C38CAD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3EF-AEE5-4738-8E83-C93401FE7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63F5-C9D6-45DB-953D-5E028B7340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75F-8E4B-426F-AB7E-C501C07EE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01B-EBF4-4BAA-ACB5-36737E891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81AC-D53E-4AD3-BDEA-625022E16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B7A-3435-4D92-A2A0-55E9E0A98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5C5D-6EC1-4813-BD34-27489AEFF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4DCF-9FE2-47D4-88BE-D4AC7B395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7F8B-C2BA-4177-B376-F71E0BF3D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71560" y="3038400"/>
            <a:ext cx="56008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214200" y="2185920"/>
            <a:ext cx="8715600" cy="2486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095480" y="37116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2771640" y="370692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4572000" y="37069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372360" y="36957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8101080" y="369576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33480" y="785880"/>
            <a:ext cx="9077040" cy="5962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01560" y="2127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590400" y="301140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611280" y="3998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6"/>
          <a:stretch/>
        </p:blipFill>
        <p:spPr>
          <a:xfrm>
            <a:off x="611280" y="493560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19080" y="1585800"/>
            <a:ext cx="9105840" cy="3686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3"/>
          <a:stretch/>
        </p:blipFill>
        <p:spPr>
          <a:xfrm>
            <a:off x="7813800" y="30114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5"/>
          <a:stretch/>
        </p:blipFill>
        <p:spPr>
          <a:xfrm>
            <a:off x="2771640" y="342900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6"/>
          <a:stretch/>
        </p:blipFill>
        <p:spPr>
          <a:xfrm>
            <a:off x="5796000" y="388152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4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